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62ED-8275-4DD5-8206-9BBB1B35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8C98-BFB4-414D-916A-FB1B4E0E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D001-98A9-4A50-856F-A52E0A12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2BB9-DB13-48CE-BA3E-06B4A0FE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7254-969E-4659-8808-8FA0A3BF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8C59-709D-4F77-9473-8819A224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A3DC-921C-470C-BA54-FA42B114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79E-DEC7-4305-ACA6-443FD3CD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A43F-8F9B-45B3-A449-944D4E6B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3554-7E2D-4C87-92B9-7C180D89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1CF-D69E-4EEC-A1DA-AD523233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5B6D-6C90-4ED8-B7F9-E9178520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944D-AF4D-4D2F-B620-785417AE0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OH &amp; S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WHOSE RESPONSIBILITY IS IT 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ff0066"/>
                </a:solidFill>
                <a:latin typeface="Arial"/>
              </a:rPr>
              <a:t>Victorian Occupational Health &amp; Safety Act (2004)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ates that the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employer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“must as far as is reasonably practicable, provide and maintain a working environment that is safe and without risks to health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Employe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lso have obligations under legislation to take reasonable care of the health and safety of themselves and 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others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and to cooperative with the employer in compliance with the legis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Why Study O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One of the main reasons we study occupational health and safety is because as you just read on the previous slides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WE ARE ALL RESPONSIBLE FOR O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Not just your emplo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Not just the gover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Look in the mirror to see the most important person responsible for your O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1:53:05Z</dcterms:created>
  <dc:creator>Owner</dc:creator>
  <dc:description/>
  <dc:language>en-US</dc:language>
  <cp:lastModifiedBy>Owner</cp:lastModifiedBy>
  <dcterms:modified xsi:type="dcterms:W3CDTF">2010-08-30T06:56:57Z</dcterms:modified>
  <cp:revision>7</cp:revision>
  <dc:subject/>
  <dc:title>OH &amp; S WHOSE RESPONSIBILITY IS IT ???</dc:title>
</cp:coreProperties>
</file>